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12.gif" ContentType="image/gif"/>
  <Override PartName="/ppt/media/image15.png" ContentType="image/png"/>
  <Override PartName="/ppt/media/image10.gif" ContentType="image/gif"/>
  <Override PartName="/ppt/media/image9.png" ContentType="image/png"/>
  <Override PartName="/ppt/media/image6.gif" ContentType="image/gif"/>
  <Override PartName="/ppt/media/camera.wav" ContentType="audio/x-wav"/>
  <Override PartName="/ppt/media/image8.gif" ContentType="image/gif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3.gif" ContentType="image/gif"/>
  <Override PartName="/ppt/media/image16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4.png" ContentType="image/png"/>
  <Override PartName="/ppt/media/image11.gif" ContentType="image/gi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50080"/>
            <a:ext cx="29718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50080"/>
            <a:ext cx="29718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1BACA-7FF0-434E-9C18-288C9BD3581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e is a three dimensional solid with a circular base and a curved surface that gradually narrows to a vertex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e is a three dimensional solid with a circular base and a curved surface that gradually narrows to a vertex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surface area of the pyramid.                              height     h = 8 m                 apothem  a = 4 m                        side         s = 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Area of the Pyram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0 m2 + 5(26.7)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0 m2 + 133.5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93.5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surface area of the pyramid.                              height     h = 8 m                 apothem  a = 4 m                        side         s = 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Area of the Pyram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0 m2 + 5(26.7)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0 m2 + 133.5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93.5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xtbook: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. 421 - 422    # 1, 2, 3,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. 439 – 441    # 1, 2, 3,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allenging Ques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. 421 - 422    # 6,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es – Practice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xtbook: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. 421 - 422    # 1, 2, 3,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. 439 – 441    # 1, 2, 3,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allenging Ques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. 421 - 422    # 6,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es – Practice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volume of a cylinder with a radius r=1 m and height h=2 m. Find the volume of a cone with a radius r=1 m and height h=1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Cylinder  = base x height             = pr2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.14(1)2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.28 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Cone   = (1/3) pr2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(1/3)(3.14)(1)2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2.09 m3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volume of a cylinder with a radius r=1 m and height h=2 m. Find the volume of a cone with a radius r=1 m and height h=1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Cylinder  = base x height             = pr2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.14(1)2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.28 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Cone   = (1/3) pr2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(1/3)(3.14)(1)2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2.09 m3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area of a cone with a radius r=3 m and height h=4 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Pythagorean  Theorem to find 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2 = r2 + h2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2= (3)2 + (4)2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2= 25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Area of a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Area of a Con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pr2 + pr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.14(3)2 + 3.14(3)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75.36 m2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= the radius       h = the height       l  = the slant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area of a cone with a radius r=3 m and height h=4 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Pythagorean  Theorem to find 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2 = r2 + h2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2= (3)2 + (4)2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2= 25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Area of a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Area of a Con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pr2 + pr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.14(3)2 + 3.14(3)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75.36 m2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= the radius       h = the height       l  = the slant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book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. 421 - 422    # 2a, 3b,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. 439 – 441    # 2abcd, 3, 4c, 5ab, 10a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es – Practice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book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. 421 - 422    # 2a, 3b,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. 439 – 441    # 2abcd, 3, 4c, 5ab, 10a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es – Practice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Pyramid is a three dimensional figure with a regular polygon as its base and lateral faces are identical isosceles triangles meeting at a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se = quadrilat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se = pentag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se = heptag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dentical isosceles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Pyramid is a three dimensional figure with a regular polygon as its base and lateral faces are identical isosceles triangles meeting at a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se = quadrilat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se = pentag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se = heptag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dentical isosceles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Pyramid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= (1/3) Area of the base x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= (1/3) A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Pyramid = 1/3 x Volume of a P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Pyramid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= (1/3) Area of the base x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= (1/3) A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Pyramid = 1/3 x Volume of a P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volume of the pyramid.                        height     h = 8 m                 apothem  a = 4 m                        side         s = 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bas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= 1/3 (area of base) (he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/3 ( 60m2)(8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60 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(5)(6)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0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volume of the pyramid.                        height     h = 8 m                 apothem  a = 4 m                        side         s = 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bas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= 1/3 (area of base) (he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/3 ( 60m2)(8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60 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(5)(6)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0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Area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area of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5 (area of one lateral 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surface area of the pyramid.                              height     h = 8 m                 apothem  a = 4 m                        side         s = 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a pentagon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hape is the b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Pa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(5)(6)(4)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0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Area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area of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5 (area of one lateral 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surface area of the pyramid.                              height     h = 8 m                 apothem  a = 4 m                        side         s = 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a pentagon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hape is the b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Pa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(5)(6)(4)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0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surface area of the pyramid.                              height     h = 8 m                 apothem  a = 4 m                        side         s = 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a triangle                   = ½ base (he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hape are the lateral sid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2 = h2 + a2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82 + 42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80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 = 8.9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ntion! the height of the triangle is the slant height ”l 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(6)(8.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26.7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surface area of the pyramid.                              height     h = 8 m                 apothem  a = 4 m                        side         s = 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a triangle                   = ½ base (he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hape are the lateral sid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2 = h2 + a2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82 + 42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80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 = 8.9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ntion! the height of the triangle is the slant height ”l 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(6)(8.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26.7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C310C-DFE5-412F-AF2E-8BBE16182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12A4-D0B2-456D-A9F0-0C64B8EBB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1EF50-C41E-4860-B437-48AFF63A26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A6968-5390-463A-AB87-30E41ED515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F20CD-FB3E-42DF-B789-1EEB3F7B4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DC106-75B2-4046-9CE4-0AA83C9638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11E0-EAB5-4A3D-BBB1-9C146A503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A3FF7-4B52-4D03-9FC3-774094AE1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819F-DD5E-4EC0-AFEA-ADCAF8B52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EEDB-496C-4492-85FF-B5C8CDFD2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1E72-5772-4EC6-BDCB-CABA13E1E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BF71-3EAD-4F3A-8771-B95C1AF5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8D77A-36D3-4F7A-90E5-BFC9B94C0E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61920" y="6593040"/>
            <a:ext cx="20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.png"/><Relationship Id="rId15" Type="http://schemas.openxmlformats.org/officeDocument/2006/relationships/image" Target="../media/image6.gi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image" Target="../media/image8.gif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image" Target="../media/image10.gif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png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png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image" Target="../media/image13.gif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0"/>
          <p:cNvSpPr/>
          <p:nvPr/>
        </p:nvSpPr>
        <p:spPr>
          <a:xfrm>
            <a:off x="2895480" y="1522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The C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24"/>
          <p:cNvSpPr/>
          <p:nvPr/>
        </p:nvSpPr>
        <p:spPr>
          <a:xfrm>
            <a:off x="1440" y="20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27"/>
          <p:cNvSpPr/>
          <p:nvPr/>
        </p:nvSpPr>
        <p:spPr>
          <a:xfrm>
            <a:off x="3040200" y="2111400"/>
            <a:ext cx="2697120" cy="23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Object 36"/>
          <p:cNvGraphicFramePr/>
          <p:nvPr/>
        </p:nvGraphicFramePr>
        <p:xfrm>
          <a:off x="990720" y="838080"/>
          <a:ext cx="640080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838080"/>
                    <a:ext cx="64008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Text Box 37"/>
          <p:cNvSpPr/>
          <p:nvPr/>
        </p:nvSpPr>
        <p:spPr>
          <a:xfrm>
            <a:off x="914400" y="914400"/>
            <a:ext cx="43434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33"/>
                </a:solidFill>
                <a:latin typeface="Comic Sans MS"/>
              </a:rPr>
              <a:t>A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Cone</a:t>
            </a:r>
            <a:r>
              <a:rPr b="0" lang="en-US" sz="1800" spc="-1" strike="noStrike">
                <a:solidFill>
                  <a:srgbClr val="0099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33"/>
                </a:solidFill>
                <a:latin typeface="Comic Sans MS"/>
              </a:rPr>
              <a:t>is a three dimensional solid with a circular base and a curved surface that gradually narrows to a vertex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5"/>
          <p:cNvSpPr/>
          <p:nvPr/>
        </p:nvSpPr>
        <p:spPr>
          <a:xfrm>
            <a:off x="914400" y="4038480"/>
            <a:ext cx="3657600" cy="1326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Volume of a C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Object 53"/>
          <p:cNvGraphicFramePr/>
          <p:nvPr/>
        </p:nvGraphicFramePr>
        <p:xfrm>
          <a:off x="990720" y="5562720"/>
          <a:ext cx="1562040" cy="81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Object 5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5562720"/>
                    <a:ext cx="156204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Object 54"/>
          <p:cNvGraphicFramePr/>
          <p:nvPr/>
        </p:nvGraphicFramePr>
        <p:xfrm>
          <a:off x="1219320" y="4419720"/>
          <a:ext cx="3066840" cy="66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" name="Object 5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4419720"/>
                    <a:ext cx="306684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Object 56"/>
          <p:cNvGraphicFramePr/>
          <p:nvPr/>
        </p:nvGraphicFramePr>
        <p:xfrm>
          <a:off x="838080" y="2590920"/>
          <a:ext cx="933480" cy="1066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" name="Object 5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8080" y="2590920"/>
                    <a:ext cx="9334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Object 57"/>
          <p:cNvGraphicFramePr/>
          <p:nvPr/>
        </p:nvGraphicFramePr>
        <p:xfrm>
          <a:off x="2133720" y="2590920"/>
          <a:ext cx="933480" cy="1066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3" name="Object 5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33720" y="2590920"/>
                    <a:ext cx="9334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Object 58"/>
          <p:cNvGraphicFramePr/>
          <p:nvPr/>
        </p:nvGraphicFramePr>
        <p:xfrm>
          <a:off x="3505320" y="2590920"/>
          <a:ext cx="933480" cy="1066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5" name="Object 5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05320" y="2590920"/>
                    <a:ext cx="9334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Object 59"/>
          <p:cNvGraphicFramePr/>
          <p:nvPr/>
        </p:nvGraphicFramePr>
        <p:xfrm>
          <a:off x="5257800" y="2590920"/>
          <a:ext cx="990720" cy="1104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7" name="Object 5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257800" y="2590920"/>
                    <a:ext cx="9907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Text Box 60"/>
          <p:cNvSpPr/>
          <p:nvPr/>
        </p:nvSpPr>
        <p:spPr>
          <a:xfrm>
            <a:off x="1752480" y="2743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3"/>
          <p:cNvSpPr/>
          <p:nvPr/>
        </p:nvSpPr>
        <p:spPr>
          <a:xfrm>
            <a:off x="3124080" y="2743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64"/>
          <p:cNvSpPr/>
          <p:nvPr/>
        </p:nvSpPr>
        <p:spPr>
          <a:xfrm>
            <a:off x="4648320" y="2743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65" descr="board"/>
          <p:cNvPicPr/>
          <p:nvPr/>
        </p:nvPicPr>
        <p:blipFill>
          <a:blip r:embed="rId15"/>
          <a:stretch/>
        </p:blipFill>
        <p:spPr>
          <a:xfrm>
            <a:off x="6629400" y="4038480"/>
            <a:ext cx="149688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Object 1026"/>
          <p:cNvGraphicFramePr/>
          <p:nvPr/>
        </p:nvGraphicFramePr>
        <p:xfrm>
          <a:off x="1600200" y="152280"/>
          <a:ext cx="5543640" cy="10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280"/>
                    <a:ext cx="554364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Text Box 1027"/>
          <p:cNvSpPr/>
          <p:nvPr/>
        </p:nvSpPr>
        <p:spPr>
          <a:xfrm>
            <a:off x="2971800" y="533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rea of Pyram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028"/>
          <p:cNvSpPr/>
          <p:nvPr/>
        </p:nvSpPr>
        <p:spPr>
          <a:xfrm>
            <a:off x="380880" y="1523880"/>
            <a:ext cx="3810240" cy="1618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d the surface area of the pyramid.                              height   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h = 8 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apothem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 = 4 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side       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s = 6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Object 1029"/>
          <p:cNvGraphicFramePr/>
          <p:nvPr/>
        </p:nvGraphicFramePr>
        <p:xfrm>
          <a:off x="914400" y="3429000"/>
          <a:ext cx="2647800" cy="235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Object 10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429000"/>
                    <a:ext cx="2647800" cy="23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Text Box 1030"/>
          <p:cNvSpPr/>
          <p:nvPr/>
        </p:nvSpPr>
        <p:spPr>
          <a:xfrm>
            <a:off x="2209680" y="4267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031"/>
          <p:cNvSpPr/>
          <p:nvPr/>
        </p:nvSpPr>
        <p:spPr>
          <a:xfrm>
            <a:off x="2438280" y="4952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032"/>
          <p:cNvSpPr/>
          <p:nvPr/>
        </p:nvSpPr>
        <p:spPr>
          <a:xfrm>
            <a:off x="1981080" y="5257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034"/>
          <p:cNvSpPr/>
          <p:nvPr/>
        </p:nvSpPr>
        <p:spPr>
          <a:xfrm>
            <a:off x="2286000" y="3581280"/>
            <a:ext cx="914400" cy="167652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035"/>
          <p:cNvSpPr/>
          <p:nvPr/>
        </p:nvSpPr>
        <p:spPr>
          <a:xfrm>
            <a:off x="2590920" y="4419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036"/>
          <p:cNvSpPr/>
          <p:nvPr/>
        </p:nvSpPr>
        <p:spPr>
          <a:xfrm>
            <a:off x="4572000" y="1447920"/>
            <a:ext cx="4419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rface Area of the Pyram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60 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5(26.7) 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60 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133.5 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193.5 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1440" y="20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3"/>
          <p:cNvSpPr/>
          <p:nvPr/>
        </p:nvSpPr>
        <p:spPr>
          <a:xfrm>
            <a:off x="3124080" y="2133720"/>
            <a:ext cx="2697120" cy="23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144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144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1600200" y="1905120"/>
            <a:ext cx="5334120" cy="2454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Textbook:</a:t>
            </a: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P. 421 - 422   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# 1, 2, 3, 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P. 439 – 441   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# 1, 2, 3,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ff"/>
                </a:solidFill>
                <a:latin typeface="Comic Sans MS"/>
              </a:rPr>
              <a:t>Challenging Ques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ff"/>
                </a:solidFill>
                <a:latin typeface="Comic Sans MS"/>
              </a:rPr>
              <a:t>P. 421 - 422    # 6,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Object 7"/>
          <p:cNvGraphicFramePr/>
          <p:nvPr/>
        </p:nvGraphicFramePr>
        <p:xfrm>
          <a:off x="1600200" y="152280"/>
          <a:ext cx="5543640" cy="15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280"/>
                    <a:ext cx="55436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Text Box 8"/>
          <p:cNvSpPr/>
          <p:nvPr/>
        </p:nvSpPr>
        <p:spPr>
          <a:xfrm>
            <a:off x="2895480" y="60948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es – Practice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9" descr="ornam3_e0"/>
          <p:cNvPicPr/>
          <p:nvPr/>
        </p:nvPicPr>
        <p:blipFill>
          <a:blip r:embed="rId3"/>
          <a:stretch/>
        </p:blipFill>
        <p:spPr>
          <a:xfrm>
            <a:off x="4038480" y="46483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0" descr="xmas_tree_8"/>
          <p:cNvPicPr/>
          <p:nvPr/>
        </p:nvPicPr>
        <p:blipFill>
          <a:blip r:embed="rId4"/>
          <a:stretch/>
        </p:blipFill>
        <p:spPr>
          <a:xfrm>
            <a:off x="6934320" y="4343400"/>
            <a:ext cx="1143000" cy="15318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1" descr="snowman_e0"/>
          <p:cNvPicPr/>
          <p:nvPr/>
        </p:nvPicPr>
        <p:blipFill>
          <a:blip r:embed="rId5"/>
          <a:stretch/>
        </p:blipFill>
        <p:spPr>
          <a:xfrm>
            <a:off x="1371600" y="464832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440" y="20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3040200" y="2111400"/>
            <a:ext cx="2697120" cy="23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1676520" y="1905120"/>
            <a:ext cx="5486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Find the volume of a cylinder with a radius r=1 m and height h=2 m. Find the volume of a cone with a radius r=1 m and height h=1 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380880" y="3581280"/>
            <a:ext cx="3657600" cy="2303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Volume of a Cylinder 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= base x height             =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3.14(1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6.28 m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Object 13"/>
          <p:cNvGraphicFramePr/>
          <p:nvPr/>
        </p:nvGraphicFramePr>
        <p:xfrm>
          <a:off x="1600200" y="152280"/>
          <a:ext cx="5543640" cy="15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280"/>
                    <a:ext cx="55436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Text Box 14"/>
          <p:cNvSpPr/>
          <p:nvPr/>
        </p:nvSpPr>
        <p:spPr>
          <a:xfrm>
            <a:off x="3352680" y="762120"/>
            <a:ext cx="221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Exercise #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Object 15"/>
          <p:cNvGraphicFramePr/>
          <p:nvPr/>
        </p:nvGraphicFramePr>
        <p:xfrm>
          <a:off x="457200" y="1905120"/>
          <a:ext cx="933480" cy="106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905120"/>
                    <a:ext cx="9334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Text Box 17"/>
          <p:cNvSpPr/>
          <p:nvPr/>
        </p:nvSpPr>
        <p:spPr>
          <a:xfrm>
            <a:off x="4952880" y="3581280"/>
            <a:ext cx="3657600" cy="28598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Volume of a Cone  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= (1/3)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(1/3)(3.14)(1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2.09 m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20" descr="christmas_snow_globe_2"/>
          <p:cNvPicPr/>
          <p:nvPr/>
        </p:nvPicPr>
        <p:blipFill>
          <a:blip r:embed="rId5"/>
          <a:stretch/>
        </p:blipFill>
        <p:spPr>
          <a:xfrm>
            <a:off x="7543800" y="380880"/>
            <a:ext cx="114300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1440" y="20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3"/>
          <p:cNvSpPr/>
          <p:nvPr/>
        </p:nvSpPr>
        <p:spPr>
          <a:xfrm>
            <a:off x="3040200" y="2111400"/>
            <a:ext cx="2697120" cy="23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057400" y="152388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Find the area of a cone with a radius r=3 m and height h=4 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457200" y="3733920"/>
            <a:ext cx="3048120" cy="44521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se the</a:t>
            </a: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Comic Sans MS"/>
              </a:rPr>
              <a:t>Pythagorean  Theorem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o find </a:t>
            </a:r>
            <a:r>
              <a:rPr b="0" i="1" lang="en-US" sz="22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Comic Sans MS"/>
              </a:rPr>
              <a:t>l </a:t>
            </a:r>
            <a:r>
              <a:rPr b="0" lang="en-US" sz="2400" spc="-1" strike="noStrike" baseline="30000">
                <a:solidFill>
                  <a:srgbClr val="0000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= r</a:t>
            </a:r>
            <a:r>
              <a:rPr b="0" lang="en-US" sz="2400" spc="-1" strike="noStrike" baseline="30000">
                <a:solidFill>
                  <a:srgbClr val="0000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+ h</a:t>
            </a:r>
            <a:r>
              <a:rPr b="0" lang="en-US" sz="2400" spc="-1" strike="noStrike" baseline="30000">
                <a:solidFill>
                  <a:srgbClr val="0000ff"/>
                </a:solidFill>
                <a:latin typeface="Comic Sans MS"/>
              </a:rPr>
              <a:t>2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(3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+ (4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25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Object 6"/>
          <p:cNvGraphicFramePr/>
          <p:nvPr/>
        </p:nvGraphicFramePr>
        <p:xfrm>
          <a:off x="1905120" y="152280"/>
          <a:ext cx="554328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52280"/>
                    <a:ext cx="554328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Text Box 7"/>
          <p:cNvSpPr/>
          <p:nvPr/>
        </p:nvSpPr>
        <p:spPr>
          <a:xfrm>
            <a:off x="3733920" y="304920"/>
            <a:ext cx="2514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Surface Area of a Co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5410080" y="3733920"/>
            <a:ext cx="3581640" cy="2926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mic Sans MS"/>
              </a:rPr>
              <a:t>Surface Area of a Cone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=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+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3.14(3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+ 3.14(3)(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75.36 m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Object 11"/>
          <p:cNvGraphicFramePr/>
          <p:nvPr/>
        </p:nvGraphicFramePr>
        <p:xfrm>
          <a:off x="304920" y="1523880"/>
          <a:ext cx="1771560" cy="194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523880"/>
                    <a:ext cx="1771560" cy="19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Text Box 13"/>
          <p:cNvSpPr/>
          <p:nvPr/>
        </p:nvSpPr>
        <p:spPr>
          <a:xfrm>
            <a:off x="2057400" y="259092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r = the radius       h = the height       </a:t>
            </a:r>
            <a:r>
              <a:rPr b="0" i="1" lang="en-US" sz="2000" spc="-1" strike="noStrike">
                <a:solidFill>
                  <a:srgbClr val="009900"/>
                </a:solidFill>
                <a:latin typeface="Comic Sans MS"/>
              </a:rPr>
              <a:t>l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 = the slant he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15" descr="mickey2"/>
          <p:cNvPicPr/>
          <p:nvPr/>
        </p:nvPicPr>
        <p:blipFill>
          <a:blip r:embed="rId5"/>
          <a:stretch/>
        </p:blipFill>
        <p:spPr>
          <a:xfrm>
            <a:off x="3886200" y="3886200"/>
            <a:ext cx="136044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1440" y="20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3124080" y="2133720"/>
            <a:ext cx="2697120" cy="23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144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7"/>
          <p:cNvSpPr/>
          <p:nvPr/>
        </p:nvSpPr>
        <p:spPr>
          <a:xfrm>
            <a:off x="144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5"/>
          <p:cNvSpPr/>
          <p:nvPr/>
        </p:nvSpPr>
        <p:spPr>
          <a:xfrm>
            <a:off x="1600200" y="2057400"/>
            <a:ext cx="5334120" cy="1202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Textbook:</a:t>
            </a: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P. 421 - 422   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# 2a, 3b,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P. 439 – 441   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# 2abcd, 3, 4c, 5ab, 10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Object 38"/>
          <p:cNvGraphicFramePr/>
          <p:nvPr/>
        </p:nvGraphicFramePr>
        <p:xfrm>
          <a:off x="1600200" y="152280"/>
          <a:ext cx="5543640" cy="15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3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280"/>
                    <a:ext cx="55436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Text Box 39"/>
          <p:cNvSpPr/>
          <p:nvPr/>
        </p:nvSpPr>
        <p:spPr>
          <a:xfrm>
            <a:off x="2895480" y="60948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es – Practice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51" descr="ornam3_e0"/>
          <p:cNvPicPr/>
          <p:nvPr/>
        </p:nvPicPr>
        <p:blipFill>
          <a:blip r:embed="rId3"/>
          <a:stretch/>
        </p:blipFill>
        <p:spPr>
          <a:xfrm>
            <a:off x="4038480" y="46483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2" descr="xmas_tree_8"/>
          <p:cNvPicPr/>
          <p:nvPr/>
        </p:nvPicPr>
        <p:blipFill>
          <a:blip r:embed="rId4"/>
          <a:stretch/>
        </p:blipFill>
        <p:spPr>
          <a:xfrm>
            <a:off x="6934320" y="4343400"/>
            <a:ext cx="1143000" cy="1531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3" descr="snowman_e0"/>
          <p:cNvPicPr/>
          <p:nvPr/>
        </p:nvPicPr>
        <p:blipFill>
          <a:blip r:embed="rId5"/>
          <a:stretch/>
        </p:blipFill>
        <p:spPr>
          <a:xfrm>
            <a:off x="1371600" y="464832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440" y="20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3"/>
          <p:cNvSpPr/>
          <p:nvPr/>
        </p:nvSpPr>
        <p:spPr>
          <a:xfrm>
            <a:off x="3124080" y="2133720"/>
            <a:ext cx="2697120" cy="23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4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5"/>
          <p:cNvSpPr/>
          <p:nvPr/>
        </p:nvSpPr>
        <p:spPr>
          <a:xfrm>
            <a:off x="3457440" y="2286000"/>
            <a:ext cx="193212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144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1600200" y="1981080"/>
            <a:ext cx="6019920" cy="1313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Pyrami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a three dimensional figure with a regular </a:t>
            </a:r>
            <a:r>
              <a:rPr b="1" lang="en-US" sz="2000" spc="-1" strike="noStrike" u="sng">
                <a:solidFill>
                  <a:srgbClr val="3333ff"/>
                </a:solidFill>
                <a:uFillTx/>
                <a:latin typeface="Comic Sans MS"/>
              </a:rPr>
              <a:t>polygon</a:t>
            </a:r>
            <a:r>
              <a:rPr b="1" lang="en-US" sz="2000" spc="-1" strike="noStrike">
                <a:solidFill>
                  <a:srgbClr val="3333ff"/>
                </a:solidFill>
                <a:latin typeface="Comic Sans MS"/>
              </a:rPr>
              <a:t> as its bas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2000" spc="-1" strike="noStrike">
                <a:solidFill>
                  <a:srgbClr val="3333ff"/>
                </a:solidFill>
                <a:latin typeface="Comic Sans MS"/>
              </a:rPr>
              <a:t>lateral faces are identical </a:t>
            </a:r>
            <a:r>
              <a:rPr b="1" lang="en-US" sz="2000" spc="-1" strike="noStrike" u="sng">
                <a:solidFill>
                  <a:srgbClr val="3333ff"/>
                </a:solidFill>
                <a:uFillTx/>
                <a:latin typeface="Comic Sans MS"/>
              </a:rPr>
              <a:t>isosceles triangl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meeting at a poi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Object 8"/>
          <p:cNvGraphicFramePr/>
          <p:nvPr/>
        </p:nvGraphicFramePr>
        <p:xfrm>
          <a:off x="1600200" y="152280"/>
          <a:ext cx="5543640" cy="15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280"/>
                    <a:ext cx="55436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Text Box 9"/>
          <p:cNvSpPr/>
          <p:nvPr/>
        </p:nvSpPr>
        <p:spPr>
          <a:xfrm>
            <a:off x="3657600" y="7621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yram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Object 18"/>
          <p:cNvGraphicFramePr/>
          <p:nvPr/>
        </p:nvGraphicFramePr>
        <p:xfrm>
          <a:off x="380880" y="4038480"/>
          <a:ext cx="2067120" cy="205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4038480"/>
                    <a:ext cx="206712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19"/>
          <p:cNvGraphicFramePr/>
          <p:nvPr/>
        </p:nvGraphicFramePr>
        <p:xfrm>
          <a:off x="3733920" y="4038480"/>
          <a:ext cx="1914480" cy="2057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33920" y="4038480"/>
                    <a:ext cx="191448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20"/>
          <p:cNvGraphicFramePr/>
          <p:nvPr/>
        </p:nvGraphicFramePr>
        <p:xfrm>
          <a:off x="6629400" y="4038480"/>
          <a:ext cx="1409760" cy="2000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0" name="Object 2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29400" y="4038480"/>
                    <a:ext cx="1409760" cy="20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Text Box 21"/>
          <p:cNvSpPr/>
          <p:nvPr/>
        </p:nvSpPr>
        <p:spPr>
          <a:xfrm>
            <a:off x="838080" y="3276720"/>
            <a:ext cx="1981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22"/>
          <p:cNvSpPr/>
          <p:nvPr/>
        </p:nvSpPr>
        <p:spPr>
          <a:xfrm>
            <a:off x="304920" y="617220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base = quadrilat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23"/>
          <p:cNvSpPr/>
          <p:nvPr/>
        </p:nvSpPr>
        <p:spPr>
          <a:xfrm>
            <a:off x="3733920" y="62485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ff"/>
                </a:solidFill>
                <a:latin typeface="Comic Sans MS"/>
              </a:rPr>
              <a:t>base = pentag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4"/>
          <p:cNvSpPr/>
          <p:nvPr/>
        </p:nvSpPr>
        <p:spPr>
          <a:xfrm>
            <a:off x="6172200" y="61722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base = heptag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Freeform 25"/>
          <p:cNvSpPr/>
          <p:nvPr/>
        </p:nvSpPr>
        <p:spPr>
          <a:xfrm>
            <a:off x="1712880" y="4233960"/>
            <a:ext cx="844560" cy="577800"/>
          </a:xfrm>
          <a:custGeom>
            <a:avLst/>
            <a:gdLst/>
            <a:ahLst/>
            <a:rect l="l" t="t" r="r" b="b"/>
            <a:pathLst>
              <a:path w="532" h="364">
                <a:moveTo>
                  <a:pt x="532" y="0"/>
                </a:moveTo>
                <a:lnTo>
                  <a:pt x="0" y="364"/>
                </a:lnTo>
              </a:path>
            </a:pathLst>
          </a:custGeom>
          <a:noFill/>
          <a:ln w="158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reeform 26"/>
          <p:cNvSpPr/>
          <p:nvPr/>
        </p:nvSpPr>
        <p:spPr>
          <a:xfrm>
            <a:off x="1447920" y="4243320"/>
            <a:ext cx="1109520" cy="1119240"/>
          </a:xfrm>
          <a:custGeom>
            <a:avLst/>
            <a:gdLst/>
            <a:ahLst/>
            <a:rect l="l" t="t" r="r" b="b"/>
            <a:pathLst>
              <a:path w="699" h="705">
                <a:moveTo>
                  <a:pt x="699" y="0"/>
                </a:moveTo>
                <a:lnTo>
                  <a:pt x="0" y="705"/>
                </a:lnTo>
              </a:path>
            </a:pathLst>
          </a:custGeom>
          <a:noFill/>
          <a:ln w="158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7"/>
          <p:cNvSpPr/>
          <p:nvPr/>
        </p:nvSpPr>
        <p:spPr>
          <a:xfrm>
            <a:off x="1600200" y="35053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dentical isosceles trian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1440" y="20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3124080" y="2133720"/>
            <a:ext cx="2697120" cy="23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144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3457440" y="2286000"/>
            <a:ext cx="193212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144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1600200" y="1828800"/>
            <a:ext cx="5334120" cy="1620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Volume of a Pyramid:</a:t>
            </a: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V = (1/3) Area of the base x he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V = (1/3) A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Volume of a Pyramid = 1/3 x Volume of a Pr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Object 8"/>
          <p:cNvGraphicFramePr/>
          <p:nvPr/>
        </p:nvGraphicFramePr>
        <p:xfrm>
          <a:off x="1600200" y="152280"/>
          <a:ext cx="5543640" cy="15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280"/>
                    <a:ext cx="55436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Text Box 9"/>
          <p:cNvSpPr/>
          <p:nvPr/>
        </p:nvSpPr>
        <p:spPr>
          <a:xfrm>
            <a:off x="2895480" y="7621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olume of Pyram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Object 18"/>
          <p:cNvGraphicFramePr/>
          <p:nvPr/>
        </p:nvGraphicFramePr>
        <p:xfrm>
          <a:off x="609480" y="4038480"/>
          <a:ext cx="1200240" cy="151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4038480"/>
                    <a:ext cx="1200240" cy="15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19"/>
          <p:cNvGraphicFramePr/>
          <p:nvPr/>
        </p:nvGraphicFramePr>
        <p:xfrm>
          <a:off x="2362320" y="4114800"/>
          <a:ext cx="1199880" cy="1514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0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62320" y="4114800"/>
                    <a:ext cx="1199880" cy="15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20"/>
          <p:cNvGraphicFramePr/>
          <p:nvPr/>
        </p:nvGraphicFramePr>
        <p:xfrm>
          <a:off x="4191120" y="4114800"/>
          <a:ext cx="1199880" cy="1514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2" name="Object 2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91120" y="4114800"/>
                    <a:ext cx="1199880" cy="15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21"/>
          <p:cNvGraphicFramePr/>
          <p:nvPr/>
        </p:nvGraphicFramePr>
        <p:xfrm>
          <a:off x="6400800" y="3962520"/>
          <a:ext cx="1104840" cy="1628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4" name="Object 2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00800" y="3962520"/>
                    <a:ext cx="1104840" cy="16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Text Box 22"/>
          <p:cNvSpPr/>
          <p:nvPr/>
        </p:nvSpPr>
        <p:spPr>
          <a:xfrm>
            <a:off x="1828800" y="457200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3"/>
          <p:cNvSpPr/>
          <p:nvPr/>
        </p:nvSpPr>
        <p:spPr>
          <a:xfrm>
            <a:off x="3581280" y="457200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24"/>
          <p:cNvSpPr/>
          <p:nvPr/>
        </p:nvSpPr>
        <p:spPr>
          <a:xfrm>
            <a:off x="5638680" y="449568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457200" y="1600200"/>
            <a:ext cx="4191120" cy="1313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d the volume of the pyramid.                        height   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h = 8 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apothem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 = 4 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side       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s = 6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4267080" y="46483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rea of base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=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½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Object 6"/>
          <p:cNvGraphicFramePr/>
          <p:nvPr/>
        </p:nvGraphicFramePr>
        <p:xfrm>
          <a:off x="1600200" y="152280"/>
          <a:ext cx="5543640" cy="12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280"/>
                    <a:ext cx="554364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Text Box 7"/>
          <p:cNvSpPr/>
          <p:nvPr/>
        </p:nvSpPr>
        <p:spPr>
          <a:xfrm>
            <a:off x="3124080" y="6094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xercise #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Object 10"/>
          <p:cNvGraphicFramePr/>
          <p:nvPr/>
        </p:nvGraphicFramePr>
        <p:xfrm>
          <a:off x="914400" y="3429000"/>
          <a:ext cx="2647800" cy="235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429000"/>
                    <a:ext cx="2647800" cy="23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Text Box 11"/>
          <p:cNvSpPr/>
          <p:nvPr/>
        </p:nvSpPr>
        <p:spPr>
          <a:xfrm>
            <a:off x="228600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3"/>
          <p:cNvSpPr/>
          <p:nvPr/>
        </p:nvSpPr>
        <p:spPr>
          <a:xfrm>
            <a:off x="2819520" y="4952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4"/>
          <p:cNvSpPr/>
          <p:nvPr/>
        </p:nvSpPr>
        <p:spPr>
          <a:xfrm>
            <a:off x="1981080" y="5257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4267080" y="3200400"/>
            <a:ext cx="449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Volume = 1/3 (area of base) (heigh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4267080" y="3657600"/>
            <a:ext cx="44960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1/3 ( 60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(8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160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4267080" y="5181480"/>
            <a:ext cx="396252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½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5)(6)(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60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19" descr="snowman_e0"/>
          <p:cNvPicPr/>
          <p:nvPr/>
        </p:nvPicPr>
        <p:blipFill>
          <a:blip r:embed="rId5"/>
          <a:stretch/>
        </p:blipFill>
        <p:spPr>
          <a:xfrm>
            <a:off x="7391520" y="182880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3"/>
          <p:cNvSpPr/>
          <p:nvPr/>
        </p:nvSpPr>
        <p:spPr>
          <a:xfrm>
            <a:off x="4648320" y="1523880"/>
            <a:ext cx="36576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Surface Area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= area of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+ 5 (area of one lateral fa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Object 4"/>
          <p:cNvGraphicFramePr/>
          <p:nvPr/>
        </p:nvGraphicFramePr>
        <p:xfrm>
          <a:off x="1600200" y="152280"/>
          <a:ext cx="5543640" cy="10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280"/>
                    <a:ext cx="554364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Text Box 5"/>
          <p:cNvSpPr/>
          <p:nvPr/>
        </p:nvSpPr>
        <p:spPr>
          <a:xfrm>
            <a:off x="2971800" y="533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rea of Pyram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380880" y="1523880"/>
            <a:ext cx="3810240" cy="1618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d the surface area of the pyramid.                              height   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h = 8 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apothem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 = 4 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side       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s = 6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Object 13"/>
          <p:cNvGraphicFramePr/>
          <p:nvPr/>
        </p:nvGraphicFramePr>
        <p:xfrm>
          <a:off x="914400" y="3429000"/>
          <a:ext cx="2647800" cy="235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429000"/>
                    <a:ext cx="2647800" cy="23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Text Box 14"/>
          <p:cNvSpPr/>
          <p:nvPr/>
        </p:nvSpPr>
        <p:spPr>
          <a:xfrm>
            <a:off x="2209680" y="4267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2438280" y="4952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6"/>
          <p:cNvSpPr/>
          <p:nvPr/>
        </p:nvSpPr>
        <p:spPr>
          <a:xfrm>
            <a:off x="1981080" y="5257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4648320" y="396252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rea of a pentagon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19"/>
          <p:cNvSpPr/>
          <p:nvPr/>
        </p:nvSpPr>
        <p:spPr>
          <a:xfrm>
            <a:off x="2286000" y="3581280"/>
            <a:ext cx="914400" cy="167652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20"/>
          <p:cNvSpPr/>
          <p:nvPr/>
        </p:nvSpPr>
        <p:spPr>
          <a:xfrm>
            <a:off x="2590920" y="4419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21"/>
          <p:cNvSpPr/>
          <p:nvPr/>
        </p:nvSpPr>
        <p:spPr>
          <a:xfrm>
            <a:off x="4648320" y="327672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shape is the bas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23"/>
          <p:cNvSpPr/>
          <p:nvPr/>
        </p:nvSpPr>
        <p:spPr>
          <a:xfrm>
            <a:off x="4724280" y="4343400"/>
            <a:ext cx="3733920" cy="15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=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½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Pa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½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5)(6)(4)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60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Object 3"/>
          <p:cNvGraphicFramePr/>
          <p:nvPr/>
        </p:nvGraphicFramePr>
        <p:xfrm>
          <a:off x="1600200" y="152280"/>
          <a:ext cx="5543640" cy="10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280"/>
                    <a:ext cx="554364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Text Box 4"/>
          <p:cNvSpPr/>
          <p:nvPr/>
        </p:nvSpPr>
        <p:spPr>
          <a:xfrm>
            <a:off x="2971800" y="533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rea of Pyram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0880" y="1523880"/>
            <a:ext cx="3810240" cy="1618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d the surface area of the pyramid.                              height   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h = 8 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apothem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 = 4 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side       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s = 6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Object 6"/>
          <p:cNvGraphicFramePr/>
          <p:nvPr/>
        </p:nvGraphicFramePr>
        <p:xfrm>
          <a:off x="914400" y="3429000"/>
          <a:ext cx="2647800" cy="235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429000"/>
                    <a:ext cx="2647800" cy="23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Text Box 7"/>
          <p:cNvSpPr/>
          <p:nvPr/>
        </p:nvSpPr>
        <p:spPr>
          <a:xfrm>
            <a:off x="2209680" y="4267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2438280" y="4952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1981080" y="5257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4648320" y="198108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rea of a triangle                   =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½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base (heigh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1"/>
          <p:cNvSpPr/>
          <p:nvPr/>
        </p:nvSpPr>
        <p:spPr>
          <a:xfrm>
            <a:off x="2286000" y="3581280"/>
            <a:ext cx="914400" cy="167652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2590920" y="4419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4572000" y="1447920"/>
            <a:ext cx="44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shape are the lateral sid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4572000" y="4876920"/>
            <a:ext cx="37339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Comic Sans MS"/>
              </a:rPr>
              <a:t>l </a:t>
            </a:r>
            <a:r>
              <a:rPr b="1" lang="en-US" sz="20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= h</a:t>
            </a:r>
            <a:r>
              <a:rPr b="1" lang="en-US" sz="20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+ a</a:t>
            </a:r>
            <a:r>
              <a:rPr b="1" lang="en-US" sz="20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8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80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l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= 8.9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4724280" y="388620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ff"/>
                </a:solidFill>
                <a:uFillTx/>
                <a:latin typeface="Comic Sans MS"/>
              </a:rPr>
              <a:t>Attention!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the height of the triangle is the slant height ”</a:t>
            </a:r>
            <a:r>
              <a:rPr b="0" i="1" lang="en-US" sz="2000" spc="-1" strike="noStrike">
                <a:solidFill>
                  <a:srgbClr val="3333ff"/>
                </a:solidFill>
                <a:latin typeface="Comic Sans MS"/>
              </a:rPr>
              <a:t>l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7"/>
          <p:cNvSpPr/>
          <p:nvPr/>
        </p:nvSpPr>
        <p:spPr>
          <a:xfrm>
            <a:off x="4648320" y="2895480"/>
            <a:ext cx="304776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½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6)(8.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26.7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5T02:24:25Z</dcterms:created>
  <dc:creator>Angela Treap</dc:creator>
  <dc:description/>
  <dc:language>en-US</dc:language>
  <cp:lastModifiedBy>RomaK</cp:lastModifiedBy>
  <dcterms:modified xsi:type="dcterms:W3CDTF">2015-09-04T07:39:12Z</dcterms:modified>
  <cp:revision>4</cp:revision>
  <dc:subject/>
  <dc:title>PowerPoint Presentation</dc:title>
</cp:coreProperties>
</file>